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A28-9B92-496C-B0E2-C203B8F8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23B-F786-4CD5-8AD4-2C8B8FF8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F9A4-3CF5-4B35-9C5F-933B2A3DC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97B-8262-4814-B7C2-A5B621DD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AD4-93E5-45F5-A05F-D4A0BB6A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7AA9-AF28-41EE-9378-E61B2984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B7DD-67D5-4809-BD0E-9F370635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453E-F31B-4C74-A693-0B09E383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139-6EC9-4724-9A83-79A9917A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77B-A8DA-43BF-B8AB-BEB424C1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259-01FF-42A0-A46F-8F4D3399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5F9-6695-4457-B02D-D67E790A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3E5-146A-497E-BB30-64FBCC4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2F1-E203-44D9-B4DF-FC18E1EB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177-146C-4E7E-A747-8338F1E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E30-510C-48AB-90AD-B16A39D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A26-FAD7-41C9-8DB1-EA8A8854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70C-1F7B-4578-B18C-BD020DE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0FC-0B1E-4106-AE72-E2B7D6F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29E-86FB-4CA0-A782-E1AB9AC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DE38-5A5F-4659-AAD5-E62A61784C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ct333-w08.wikispaces.com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1: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(25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29 i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MC, short answer, and longer/applied essay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about application than regurg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near the end on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stic, interdependent relations among these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in Human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well versed in particular skill sets - whether they’re trained to be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do some things extraordinarily well - and require a lot of effort to mimic human skills even part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should speak to strengths of both - esp. when electronic technologies are embedded in physical spa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on PACT and general user experience design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ight – first labs - intro to first assignment and first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agining the Audience in a Wired Wor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is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ed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it about u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ael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zabeth Littlejoh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and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Sylla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s/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onal Inspiration Narrative (10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kle’s Falling for Science – a collection of stories of technological objects and the attachments/inspirations people have received through their use/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3 pages in similar style – what technologies have inspired you?  Created awe? Intense attachment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related to other life moments – narrative should give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y should be personal, enga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. 25 – so give early thought to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y/Task Analysis (10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ly consider a job context - one you’re familiar with and/or can get access to internal dynam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chart - a holistic overview of related tasks and roles (specifics discussed in lab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analysis - a structured analysis of the execution of one task (flowchar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redefinition - fixing a task and explaining its iteration in activity flow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Feb.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 Analysis (15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cles and examples highlighted in labs (starting tod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to consider posted – small reflection due a week from discussion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miss one case – but do them regularly (it’s easily forgotten and hurts you badly if d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 on your personal wiki personal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going – last case Mar. 15, last due date Mar.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ct333-w10.wikispace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LATE (wh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intro/t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 and community building – 5% for project feedback (due Mar. 15) and 5% for community building (due Mar. 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 year wikis also available – handy to review work of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(30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design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tion and research – this year based on sustainable development and sustaina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enarios/requirement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of technology and its presentation/documentation (final – Mar. 22; interim deadlines through M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37:18Z</dcterms:created>
  <dc:creator/>
  <dc:description/>
  <dc:language>en-US</dc:language>
  <cp:lastModifiedBy>Sheridan College</cp:lastModifiedBy>
  <dcterms:modified xsi:type="dcterms:W3CDTF">2010-01-04T16:51:28Z</dcterms:modified>
  <cp:revision>10</cp:revision>
  <dc:subject/>
  <dc:title>CCT 333: Imagining the Audience in a Wired World</dc:title>
</cp:coreProperties>
</file>